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09064-B103-4800-ABDA-B07050FB4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EDB-D25F-47CF-A00B-B3866908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2440-06E4-4418-AE7E-A3132689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F1F9-8600-44E3-AFDE-93AA4100B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3D24-9F2F-4628-979A-02FAD9D5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61771-D745-411E-907E-54F7F378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8D66-FB91-465B-99EC-AB80486A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0CEC-8706-40CD-AAE3-F0A891BE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4A36-8327-4A08-ABA2-23CC7465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4D635-0D8F-4DD8-9246-3460672A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487F-291D-4446-8259-AA0B0FFC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C12-9919-47F8-8A18-2B39C599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D2DE-CEEC-40CB-A575-8828FC2A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2AD0-8DD7-417E-A7DB-1B68E496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EC70-7079-4D6B-860C-9A3DFA1A0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8CB0-9A31-4AB6-8E12-0ED7E5C2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5A92-EF99-4BBA-96C7-5EB4B185E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9879-242A-4D60-838E-DC3F49327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824-D25D-4692-ADE2-A61FE371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FABA-B7A7-41AB-AE6D-8CADEA5F8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6207-F842-44B8-9BFB-9E6CBC80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DE7B-4142-4A23-B0F1-EE497A90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2CDD-CCF8-4F59-BAFF-83A6A0F8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35D2-4480-4360-A752-83264F92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66cc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468a4b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f0e5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D355-AB42-4D75-9C4C-6A685B2561AE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07" name="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ebf1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ebf1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ebf1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3ebf1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16200000">
            <a:off x="3871080" y="1005120"/>
            <a:ext cx="150840" cy="4845240"/>
          </a:xfrm>
          <a:custGeom>
            <a:avLst/>
            <a:gdLst/>
            <a:ahLst/>
            <a:rect l="l" t="t" r="r" b="b"/>
            <a:pathLst>
              <a:path w="95" h="3052">
                <a:moveTo>
                  <a:pt x="4" y="3052"/>
                </a:moveTo>
                <a:lnTo>
                  <a:pt x="4" y="3032"/>
                </a:lnTo>
                <a:lnTo>
                  <a:pt x="5" y="3008"/>
                </a:lnTo>
                <a:lnTo>
                  <a:pt x="12" y="2948"/>
                </a:lnTo>
                <a:lnTo>
                  <a:pt x="19" y="2882"/>
                </a:lnTo>
                <a:lnTo>
                  <a:pt x="21" y="2846"/>
                </a:lnTo>
                <a:lnTo>
                  <a:pt x="23" y="2810"/>
                </a:lnTo>
                <a:lnTo>
                  <a:pt x="26" y="2736"/>
                </a:lnTo>
                <a:lnTo>
                  <a:pt x="28" y="2662"/>
                </a:lnTo>
                <a:lnTo>
                  <a:pt x="32" y="2596"/>
                </a:lnTo>
                <a:lnTo>
                  <a:pt x="35" y="2540"/>
                </a:lnTo>
                <a:lnTo>
                  <a:pt x="44" y="2426"/>
                </a:lnTo>
                <a:lnTo>
                  <a:pt x="43" y="2444"/>
                </a:lnTo>
                <a:lnTo>
                  <a:pt x="35" y="2540"/>
                </a:lnTo>
                <a:lnTo>
                  <a:pt x="32" y="2602"/>
                </a:lnTo>
                <a:lnTo>
                  <a:pt x="28" y="2676"/>
                </a:lnTo>
                <a:lnTo>
                  <a:pt x="36" y="2582"/>
                </a:lnTo>
                <a:lnTo>
                  <a:pt x="40" y="2540"/>
                </a:lnTo>
                <a:lnTo>
                  <a:pt x="45" y="2504"/>
                </a:lnTo>
                <a:lnTo>
                  <a:pt x="48" y="2456"/>
                </a:lnTo>
                <a:lnTo>
                  <a:pt x="50" y="2404"/>
                </a:lnTo>
                <a:lnTo>
                  <a:pt x="52" y="2350"/>
                </a:lnTo>
                <a:lnTo>
                  <a:pt x="54" y="2294"/>
                </a:lnTo>
                <a:lnTo>
                  <a:pt x="54" y="2184"/>
                </a:lnTo>
                <a:lnTo>
                  <a:pt x="52" y="2074"/>
                </a:lnTo>
                <a:lnTo>
                  <a:pt x="52" y="1966"/>
                </a:lnTo>
                <a:lnTo>
                  <a:pt x="52" y="1916"/>
                </a:lnTo>
                <a:lnTo>
                  <a:pt x="55" y="1854"/>
                </a:lnTo>
                <a:lnTo>
                  <a:pt x="57" y="1794"/>
                </a:lnTo>
                <a:lnTo>
                  <a:pt x="59" y="1768"/>
                </a:lnTo>
                <a:lnTo>
                  <a:pt x="61" y="1746"/>
                </a:lnTo>
                <a:lnTo>
                  <a:pt x="59" y="1786"/>
                </a:lnTo>
                <a:lnTo>
                  <a:pt x="57" y="1826"/>
                </a:lnTo>
                <a:lnTo>
                  <a:pt x="55" y="1906"/>
                </a:lnTo>
                <a:lnTo>
                  <a:pt x="55" y="1986"/>
                </a:lnTo>
                <a:lnTo>
                  <a:pt x="55" y="2068"/>
                </a:lnTo>
                <a:lnTo>
                  <a:pt x="57" y="2230"/>
                </a:lnTo>
                <a:lnTo>
                  <a:pt x="57" y="2310"/>
                </a:lnTo>
                <a:lnTo>
                  <a:pt x="55" y="2392"/>
                </a:lnTo>
                <a:lnTo>
                  <a:pt x="56" y="2374"/>
                </a:lnTo>
                <a:lnTo>
                  <a:pt x="58" y="2290"/>
                </a:lnTo>
                <a:lnTo>
                  <a:pt x="58" y="2204"/>
                </a:lnTo>
                <a:lnTo>
                  <a:pt x="57" y="2034"/>
                </a:lnTo>
                <a:lnTo>
                  <a:pt x="58" y="1974"/>
                </a:lnTo>
                <a:lnTo>
                  <a:pt x="57" y="2034"/>
                </a:lnTo>
                <a:lnTo>
                  <a:pt x="59" y="2108"/>
                </a:lnTo>
                <a:lnTo>
                  <a:pt x="60" y="2188"/>
                </a:lnTo>
                <a:lnTo>
                  <a:pt x="60" y="2242"/>
                </a:lnTo>
                <a:lnTo>
                  <a:pt x="60" y="2294"/>
                </a:lnTo>
                <a:lnTo>
                  <a:pt x="58" y="2336"/>
                </a:lnTo>
                <a:lnTo>
                  <a:pt x="56" y="2374"/>
                </a:lnTo>
                <a:lnTo>
                  <a:pt x="54" y="2426"/>
                </a:lnTo>
                <a:lnTo>
                  <a:pt x="54" y="2442"/>
                </a:lnTo>
                <a:lnTo>
                  <a:pt x="56" y="2428"/>
                </a:lnTo>
                <a:lnTo>
                  <a:pt x="58" y="2408"/>
                </a:lnTo>
                <a:lnTo>
                  <a:pt x="62" y="2348"/>
                </a:lnTo>
                <a:lnTo>
                  <a:pt x="64" y="2270"/>
                </a:lnTo>
                <a:lnTo>
                  <a:pt x="66" y="2180"/>
                </a:lnTo>
                <a:lnTo>
                  <a:pt x="68" y="2006"/>
                </a:lnTo>
                <a:lnTo>
                  <a:pt x="68" y="1900"/>
                </a:lnTo>
                <a:lnTo>
                  <a:pt x="68" y="1858"/>
                </a:lnTo>
                <a:lnTo>
                  <a:pt x="67" y="1818"/>
                </a:lnTo>
                <a:lnTo>
                  <a:pt x="67" y="1776"/>
                </a:lnTo>
                <a:lnTo>
                  <a:pt x="68" y="1732"/>
                </a:lnTo>
                <a:lnTo>
                  <a:pt x="71" y="1704"/>
                </a:lnTo>
                <a:lnTo>
                  <a:pt x="72" y="1690"/>
                </a:lnTo>
                <a:lnTo>
                  <a:pt x="72" y="1678"/>
                </a:lnTo>
                <a:lnTo>
                  <a:pt x="72" y="1672"/>
                </a:lnTo>
                <a:lnTo>
                  <a:pt x="72" y="1660"/>
                </a:lnTo>
                <a:lnTo>
                  <a:pt x="74" y="1628"/>
                </a:lnTo>
                <a:lnTo>
                  <a:pt x="78" y="1598"/>
                </a:lnTo>
                <a:lnTo>
                  <a:pt x="80" y="1570"/>
                </a:lnTo>
                <a:lnTo>
                  <a:pt x="81" y="1544"/>
                </a:lnTo>
                <a:lnTo>
                  <a:pt x="82" y="1534"/>
                </a:lnTo>
                <a:lnTo>
                  <a:pt x="84" y="1520"/>
                </a:lnTo>
                <a:lnTo>
                  <a:pt x="88" y="1492"/>
                </a:lnTo>
                <a:lnTo>
                  <a:pt x="94" y="1466"/>
                </a:lnTo>
                <a:lnTo>
                  <a:pt x="95" y="1456"/>
                </a:lnTo>
                <a:lnTo>
                  <a:pt x="95" y="1452"/>
                </a:lnTo>
                <a:lnTo>
                  <a:pt x="91" y="1442"/>
                </a:lnTo>
                <a:lnTo>
                  <a:pt x="90" y="1440"/>
                </a:lnTo>
                <a:lnTo>
                  <a:pt x="90" y="1436"/>
                </a:lnTo>
                <a:lnTo>
                  <a:pt x="92" y="1422"/>
                </a:lnTo>
                <a:lnTo>
                  <a:pt x="93" y="1390"/>
                </a:lnTo>
                <a:lnTo>
                  <a:pt x="90" y="1372"/>
                </a:lnTo>
                <a:lnTo>
                  <a:pt x="88" y="1360"/>
                </a:lnTo>
                <a:lnTo>
                  <a:pt x="87" y="1348"/>
                </a:lnTo>
                <a:lnTo>
                  <a:pt x="86" y="1320"/>
                </a:lnTo>
                <a:lnTo>
                  <a:pt x="84" y="1298"/>
                </a:lnTo>
                <a:lnTo>
                  <a:pt x="82" y="1274"/>
                </a:lnTo>
                <a:lnTo>
                  <a:pt x="79" y="1244"/>
                </a:lnTo>
                <a:lnTo>
                  <a:pt x="75" y="1198"/>
                </a:lnTo>
                <a:lnTo>
                  <a:pt x="74" y="1164"/>
                </a:lnTo>
                <a:lnTo>
                  <a:pt x="73" y="1130"/>
                </a:lnTo>
                <a:lnTo>
                  <a:pt x="69" y="1090"/>
                </a:lnTo>
                <a:lnTo>
                  <a:pt x="66" y="1032"/>
                </a:lnTo>
                <a:lnTo>
                  <a:pt x="63" y="980"/>
                </a:lnTo>
                <a:lnTo>
                  <a:pt x="63" y="924"/>
                </a:lnTo>
                <a:lnTo>
                  <a:pt x="63" y="876"/>
                </a:lnTo>
                <a:lnTo>
                  <a:pt x="63" y="830"/>
                </a:lnTo>
                <a:lnTo>
                  <a:pt x="66" y="784"/>
                </a:lnTo>
                <a:lnTo>
                  <a:pt x="63" y="756"/>
                </a:lnTo>
                <a:lnTo>
                  <a:pt x="62" y="726"/>
                </a:lnTo>
                <a:lnTo>
                  <a:pt x="60" y="662"/>
                </a:lnTo>
                <a:lnTo>
                  <a:pt x="58" y="598"/>
                </a:lnTo>
                <a:lnTo>
                  <a:pt x="55" y="536"/>
                </a:lnTo>
                <a:lnTo>
                  <a:pt x="52" y="486"/>
                </a:lnTo>
                <a:lnTo>
                  <a:pt x="51" y="444"/>
                </a:lnTo>
                <a:lnTo>
                  <a:pt x="54" y="360"/>
                </a:lnTo>
                <a:lnTo>
                  <a:pt x="54" y="334"/>
                </a:lnTo>
                <a:lnTo>
                  <a:pt x="54" y="314"/>
                </a:lnTo>
                <a:lnTo>
                  <a:pt x="54" y="304"/>
                </a:lnTo>
                <a:lnTo>
                  <a:pt x="52" y="290"/>
                </a:lnTo>
                <a:lnTo>
                  <a:pt x="51" y="274"/>
                </a:lnTo>
                <a:lnTo>
                  <a:pt x="51" y="258"/>
                </a:lnTo>
                <a:lnTo>
                  <a:pt x="54" y="262"/>
                </a:lnTo>
                <a:lnTo>
                  <a:pt x="55" y="238"/>
                </a:lnTo>
                <a:lnTo>
                  <a:pt x="55" y="232"/>
                </a:lnTo>
                <a:lnTo>
                  <a:pt x="56" y="234"/>
                </a:lnTo>
                <a:lnTo>
                  <a:pt x="58" y="236"/>
                </a:lnTo>
                <a:lnTo>
                  <a:pt x="59" y="238"/>
                </a:lnTo>
                <a:lnTo>
                  <a:pt x="60" y="236"/>
                </a:lnTo>
                <a:lnTo>
                  <a:pt x="61" y="230"/>
                </a:lnTo>
                <a:lnTo>
                  <a:pt x="63" y="190"/>
                </a:lnTo>
                <a:lnTo>
                  <a:pt x="66" y="150"/>
                </a:lnTo>
                <a:lnTo>
                  <a:pt x="66" y="110"/>
                </a:lnTo>
                <a:lnTo>
                  <a:pt x="66" y="72"/>
                </a:lnTo>
                <a:lnTo>
                  <a:pt x="64" y="68"/>
                </a:lnTo>
                <a:lnTo>
                  <a:pt x="62" y="64"/>
                </a:lnTo>
                <a:lnTo>
                  <a:pt x="63" y="40"/>
                </a:lnTo>
                <a:lnTo>
                  <a:pt x="61" y="38"/>
                </a:lnTo>
                <a:lnTo>
                  <a:pt x="60" y="36"/>
                </a:lnTo>
                <a:lnTo>
                  <a:pt x="58" y="34"/>
                </a:lnTo>
                <a:lnTo>
                  <a:pt x="57" y="32"/>
                </a:lnTo>
                <a:lnTo>
                  <a:pt x="55" y="30"/>
                </a:lnTo>
                <a:lnTo>
                  <a:pt x="52" y="26"/>
                </a:lnTo>
                <a:lnTo>
                  <a:pt x="48" y="12"/>
                </a:lnTo>
                <a:lnTo>
                  <a:pt x="44" y="2"/>
                </a:lnTo>
                <a:lnTo>
                  <a:pt x="41" y="0"/>
                </a:lnTo>
                <a:lnTo>
                  <a:pt x="39" y="0"/>
                </a:lnTo>
                <a:lnTo>
                  <a:pt x="37" y="8"/>
                </a:lnTo>
                <a:lnTo>
                  <a:pt x="34" y="28"/>
                </a:lnTo>
                <a:lnTo>
                  <a:pt x="31" y="50"/>
                </a:lnTo>
                <a:lnTo>
                  <a:pt x="26" y="68"/>
                </a:lnTo>
                <a:lnTo>
                  <a:pt x="26" y="70"/>
                </a:lnTo>
                <a:lnTo>
                  <a:pt x="25" y="70"/>
                </a:lnTo>
                <a:lnTo>
                  <a:pt x="24" y="66"/>
                </a:lnTo>
                <a:lnTo>
                  <a:pt x="22" y="56"/>
                </a:lnTo>
                <a:lnTo>
                  <a:pt x="20" y="72"/>
                </a:lnTo>
                <a:lnTo>
                  <a:pt x="19" y="80"/>
                </a:lnTo>
                <a:lnTo>
                  <a:pt x="17" y="80"/>
                </a:lnTo>
                <a:lnTo>
                  <a:pt x="16" y="80"/>
                </a:lnTo>
                <a:lnTo>
                  <a:pt x="15" y="72"/>
                </a:lnTo>
                <a:lnTo>
                  <a:pt x="14" y="86"/>
                </a:lnTo>
                <a:lnTo>
                  <a:pt x="11" y="78"/>
                </a:lnTo>
                <a:lnTo>
                  <a:pt x="5" y="134"/>
                </a:lnTo>
                <a:lnTo>
                  <a:pt x="1" y="190"/>
                </a:lnTo>
                <a:lnTo>
                  <a:pt x="0" y="220"/>
                </a:lnTo>
                <a:lnTo>
                  <a:pt x="0" y="248"/>
                </a:lnTo>
                <a:lnTo>
                  <a:pt x="0" y="274"/>
                </a:lnTo>
                <a:lnTo>
                  <a:pt x="1" y="302"/>
                </a:lnTo>
                <a:lnTo>
                  <a:pt x="3" y="328"/>
                </a:lnTo>
                <a:lnTo>
                  <a:pt x="7" y="358"/>
                </a:lnTo>
                <a:lnTo>
                  <a:pt x="7" y="374"/>
                </a:lnTo>
                <a:lnTo>
                  <a:pt x="7" y="390"/>
                </a:lnTo>
                <a:lnTo>
                  <a:pt x="9" y="396"/>
                </a:lnTo>
                <a:lnTo>
                  <a:pt x="11" y="400"/>
                </a:lnTo>
                <a:lnTo>
                  <a:pt x="14" y="404"/>
                </a:lnTo>
                <a:lnTo>
                  <a:pt x="15" y="450"/>
                </a:lnTo>
                <a:lnTo>
                  <a:pt x="16" y="502"/>
                </a:lnTo>
                <a:lnTo>
                  <a:pt x="17" y="526"/>
                </a:lnTo>
                <a:lnTo>
                  <a:pt x="20" y="544"/>
                </a:lnTo>
                <a:lnTo>
                  <a:pt x="22" y="556"/>
                </a:lnTo>
                <a:lnTo>
                  <a:pt x="23" y="558"/>
                </a:lnTo>
                <a:lnTo>
                  <a:pt x="25" y="558"/>
                </a:lnTo>
                <a:lnTo>
                  <a:pt x="26" y="584"/>
                </a:lnTo>
                <a:lnTo>
                  <a:pt x="28" y="602"/>
                </a:lnTo>
                <a:lnTo>
                  <a:pt x="32" y="622"/>
                </a:lnTo>
                <a:lnTo>
                  <a:pt x="34" y="648"/>
                </a:lnTo>
                <a:lnTo>
                  <a:pt x="38" y="740"/>
                </a:lnTo>
                <a:lnTo>
                  <a:pt x="40" y="790"/>
                </a:lnTo>
                <a:lnTo>
                  <a:pt x="41" y="840"/>
                </a:lnTo>
                <a:lnTo>
                  <a:pt x="43" y="896"/>
                </a:lnTo>
                <a:lnTo>
                  <a:pt x="41" y="952"/>
                </a:lnTo>
                <a:lnTo>
                  <a:pt x="41" y="992"/>
                </a:lnTo>
                <a:lnTo>
                  <a:pt x="43" y="1094"/>
                </a:lnTo>
                <a:lnTo>
                  <a:pt x="46" y="1190"/>
                </a:lnTo>
                <a:lnTo>
                  <a:pt x="50" y="1282"/>
                </a:lnTo>
                <a:lnTo>
                  <a:pt x="55" y="1370"/>
                </a:lnTo>
                <a:lnTo>
                  <a:pt x="57" y="1414"/>
                </a:lnTo>
                <a:lnTo>
                  <a:pt x="56" y="1456"/>
                </a:lnTo>
                <a:lnTo>
                  <a:pt x="55" y="1500"/>
                </a:lnTo>
                <a:lnTo>
                  <a:pt x="52" y="1544"/>
                </a:lnTo>
                <a:lnTo>
                  <a:pt x="46" y="1636"/>
                </a:lnTo>
                <a:lnTo>
                  <a:pt x="40" y="1736"/>
                </a:lnTo>
                <a:lnTo>
                  <a:pt x="38" y="1786"/>
                </a:lnTo>
                <a:lnTo>
                  <a:pt x="38" y="1838"/>
                </a:lnTo>
                <a:lnTo>
                  <a:pt x="37" y="1942"/>
                </a:lnTo>
                <a:lnTo>
                  <a:pt x="39" y="2046"/>
                </a:lnTo>
                <a:lnTo>
                  <a:pt x="40" y="2148"/>
                </a:lnTo>
                <a:lnTo>
                  <a:pt x="41" y="2248"/>
                </a:lnTo>
                <a:lnTo>
                  <a:pt x="40" y="2344"/>
                </a:lnTo>
                <a:lnTo>
                  <a:pt x="39" y="2392"/>
                </a:lnTo>
                <a:lnTo>
                  <a:pt x="37" y="2438"/>
                </a:lnTo>
                <a:lnTo>
                  <a:pt x="35" y="2482"/>
                </a:lnTo>
                <a:lnTo>
                  <a:pt x="31" y="2526"/>
                </a:lnTo>
                <a:lnTo>
                  <a:pt x="25" y="2612"/>
                </a:lnTo>
                <a:lnTo>
                  <a:pt x="22" y="2692"/>
                </a:lnTo>
                <a:lnTo>
                  <a:pt x="20" y="2766"/>
                </a:lnTo>
                <a:lnTo>
                  <a:pt x="15" y="2830"/>
                </a:lnTo>
                <a:lnTo>
                  <a:pt x="11" y="2886"/>
                </a:lnTo>
                <a:lnTo>
                  <a:pt x="5" y="2936"/>
                </a:lnTo>
                <a:lnTo>
                  <a:pt x="2" y="2976"/>
                </a:lnTo>
                <a:lnTo>
                  <a:pt x="1" y="2994"/>
                </a:lnTo>
                <a:lnTo>
                  <a:pt x="0" y="3010"/>
                </a:lnTo>
                <a:lnTo>
                  <a:pt x="2" y="3032"/>
                </a:lnTo>
                <a:lnTo>
                  <a:pt x="4" y="3052"/>
                </a:lnTo>
                <a:close/>
              </a:path>
            </a:pathLst>
          </a:cu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F398-0E76-493D-93C9-E880A721600C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111240" algn="ctr">
              <a:spcBef>
                <a:spcPts val="7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139680" algn="ctr">
              <a:spcBef>
                <a:spcPts val="601"/>
              </a:spcBef>
              <a:buClr>
                <a:srgbClr val="468a4b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171360" algn="ctr">
              <a:spcBef>
                <a:spcPts val="499"/>
              </a:spcBef>
              <a:buClr>
                <a:srgbClr val="f0e5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22392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223920"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e3ebf1"/>
                </a:solidFill>
                <a:uFillTx/>
                <a:latin typeface="Monotype Corsiva"/>
              </a:rPr>
              <a:t>Special &amp; Vulnerab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0" y="914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Global Ch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Monotype Corsiva"/>
              </a:rPr>
              <a:t>Sea Leve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47920" y="3124080"/>
            <a:ext cx="504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Monotype Corsiva"/>
              </a:rPr>
              <a:t>Wh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2:31Z</dcterms:created>
  <dc:creator>PA Department of Education</dc:creator>
  <dc:description/>
  <dc:language>en-US</dc:language>
  <cp:lastModifiedBy>PA Department of Education</cp:lastModifiedBy>
  <dcterms:modified xsi:type="dcterms:W3CDTF">2009-05-27T16:45:00Z</dcterms:modified>
  <cp:revision>4</cp:revision>
  <dc:subject/>
  <dc:title>Special &amp; Vulnerable</dc:title>
</cp:coreProperties>
</file>